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3981-30FB-4AA4-A12A-E9CD31F6FF1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03FE-458A-442F-A218-077CE58A155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029F-2162-4B8B-925E-2EA8A9734EC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53EA-923D-43FF-8011-A69D70B7C63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C5E4-495E-4A8C-9C7E-1D790FAFE45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389-8C67-4DB1-84FE-6F5AA0F0001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6BD9-6A02-4CB3-9CB2-EF47202828B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EF7D-79C5-4017-9F58-C2C652EF00E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424-390F-4522-B598-EA912ED58AD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E92C-3473-4178-98BD-7D28D6B751C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4A84-58D0-4012-9966-E35A5630513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4AC9-1D00-429A-B8C3-508B2B76BB4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9A08-AB46-4C59-BECE-1271EE0AA08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A6C6-63E9-4BE5-9FD6-17940E6495E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AE4C-2F56-4ADE-9B38-24E438F077A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B0A7-88D8-4CE0-B3AC-2A659F75EC1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33AF-9CAD-47AD-8C11-B62C7056230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B4CA-ADA8-4806-A275-A09911A21B0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B467-EEBB-4568-B22F-189B2C2E0E8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42BE-C917-4209-8F16-4D4142AA34C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A673-868F-49ED-A089-CE6567D64D7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508-6944-4B72-8A36-903E8CE6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9DD-81F2-436F-B2BF-926D375A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890-04D0-4A37-8144-E21BCFB6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D52-03BF-4E28-A6E5-45690199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FB10-4567-457A-B9D7-BB54B8A8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925B-2C56-4169-B9CC-5035BFF3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95FE-2034-49CB-B10C-FBC61DF0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DE61-D104-473A-A18E-06F325AB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6F2C-C2F8-4BE0-A017-411D8D71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9C98-3E40-4B9E-8227-C4A6A160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A716-139A-4B21-B410-7C3E9FC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DD2-1776-44BC-918C-F612C4F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25FD-36A6-4278-A1D1-49A91F54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09AD-582D-48BD-B092-9FFDA88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B706-B4D2-4955-B94F-3F406E16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5AAD-8C6D-44E3-B75C-5BD3EB72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8E3C-A31E-4109-AE4C-A2FFC693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3390-EBE4-4A9C-A478-44F1A7F4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C7E9-8720-444F-BE29-1A90FBE7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035B9-53BC-4B64-91A2-03922EDC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D8C2-69B8-4E9B-B07F-6DC42895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6B32-7EAE-41DA-B856-7AAA1B4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4ED-3941-4DDA-A5F7-55896D2A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2D5E-1C87-4AA4-A1D6-0180F4D8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9408-899D-4EFE-B268-9B1D14FA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AEA9-F15E-4F58-9B11-9510CD41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9A43-F8D3-4C53-B4BB-607962A3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A44F-7F31-4241-9E4B-3621B2CB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435F-D8F3-4A71-BB44-561387DF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4F0D-99EC-4C2D-9A17-A6AADDDD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41A5C-AD68-4D0A-82CE-AD34824B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BB58-0D61-4686-A9BF-14BAA4BA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3251-EAD8-490B-8AB9-2C365B4D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C64-9A47-4187-A3AE-E125EE45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50EBC-9E91-49F4-886B-FA6FCE68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2C25-CE2E-43E4-8F86-3A923A49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94C34-83A4-4486-AB2E-C7C4217C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22236-F779-462C-8FED-D103CF82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912F-3FC1-473F-B263-C2088E1D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0007-1326-41B7-9B13-66CD7D8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92A7-F484-42EB-AF2E-D40D2889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A02E-D2D0-48A3-83EC-C472E5D8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A5A4-EC08-4FD4-89D3-644E6333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4F8-EABE-44F6-A363-4E8324B3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56F-5C38-4FFB-ACA4-E2193FA1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6E6-1541-4C7A-9373-0FD1774E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132-A521-445A-88ED-5BB987A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1C3-A86C-487A-A038-2F46E904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00FA-8FD9-4E6E-9C87-E8F6AC1AD7B4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B359-4308-423B-B233-7AEB4DE0E128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0D84-50FD-45FC-9AEF-81066D105A22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476D-795F-4B5D-8C84-D27576E3328A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84F2-4B28-4017-9A88-13EF8B75189B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5804-AAC8-41AE-A54C-127833302269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9539-9489-4AB3-8492-3AAAE55F3EE0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30AD-B152-4710-8058-95A50B04B9C8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433440"/>
            <a:ext cx="7351920" cy="1187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g. 468 #3-8,9c,10,11,13-15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ny vector perpendicular to a plane is a “normal ” to the plane. It can be found by the Cross product of any 2 direction vectors of the plan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normal to a plane is used to determine many properties of a plan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44928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 the vector equation i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parametric equations ar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1320840" y="2852640"/>
          <a:ext cx="556416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2852640"/>
                    <a:ext cx="5564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3105000" y="4724280"/>
          <a:ext cx="221148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5000" y="4724280"/>
                    <a:ext cx="221148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Catesian/Scalar equation is used most often becaus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t is simpler than the vector or parametric form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Unlike vector or parametric forms, there is only ONE Cartesian/Scalar equation for each plan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From a Scalar equation we can easily identify the normal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normal is often used 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***Identify whether two planes are parallel, coincident or perpendicul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 parametric equations ar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oincident Plan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Scalar equations of planes are scalar multiples of each other. Ex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3" name="Object 2"/>
          <p:cNvGraphicFramePr/>
          <p:nvPr/>
        </p:nvGraphicFramePr>
        <p:xfrm>
          <a:off x="2268360" y="3213000"/>
          <a:ext cx="465300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213000"/>
                    <a:ext cx="46530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arallel Plan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When normal vectors are parallel and they don’t share a common point. Ex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erpendicular Plan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-When normal vectors are perpendicular. Ex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7" name="Object 2"/>
          <p:cNvGraphicFramePr/>
          <p:nvPr/>
        </p:nvGraphicFramePr>
        <p:xfrm>
          <a:off x="5064120" y="2492280"/>
          <a:ext cx="402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4120" y="2492280"/>
                    <a:ext cx="402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Object 3" descr=""/>
          <p:cNvPicPr/>
          <p:nvPr/>
        </p:nvPicPr>
        <p:blipFill>
          <a:blip r:embed="rId3"/>
          <a:stretch/>
        </p:blipFill>
        <p:spPr>
          <a:xfrm>
            <a:off x="6012000" y="5877000"/>
            <a:ext cx="15843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 3: Determine whether the following planes are parallel, coincident, perpendicular or neith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b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Object 2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995920" cy="151308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4" descr=""/>
          <p:cNvPicPr/>
          <p:nvPr/>
        </p:nvPicPr>
        <p:blipFill>
          <a:blip r:embed="rId2"/>
          <a:stretch/>
        </p:blipFill>
        <p:spPr>
          <a:xfrm>
            <a:off x="5364000" y="2916360"/>
            <a:ext cx="291816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Object 5"/>
          <p:cNvGraphicFramePr/>
          <p:nvPr/>
        </p:nvGraphicFramePr>
        <p:xfrm>
          <a:off x="687240" y="3746520"/>
          <a:ext cx="4043520" cy="28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240" y="3746520"/>
                    <a:ext cx="40435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6" name="Object 6" descr=""/>
          <p:cNvPicPr/>
          <p:nvPr/>
        </p:nvPicPr>
        <p:blipFill>
          <a:blip r:embed="rId5"/>
          <a:stretch/>
        </p:blipFill>
        <p:spPr>
          <a:xfrm>
            <a:off x="5221440" y="4194000"/>
            <a:ext cx="3095640" cy="23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Normals can also be used to find whether a line is parallel and off, parallel and on or perpendicular to a plan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Line Perpendicular to a Plane: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Line Parallel to a Plane: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(parallel and on if they ALSO share a common poin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Object 3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2076480" cy="846360"/>
          </a:xfrm>
          <a:prstGeom prst="rect">
            <a:avLst/>
          </a:prstGeom>
          <a:ln w="0">
            <a:noFill/>
          </a:ln>
        </p:spPr>
      </p:pic>
      <p:pic>
        <p:nvPicPr>
          <p:cNvPr id="280" name="Object 4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1727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Ex. 4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 the 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parallel to the plan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Is so, does it lie on or off the plane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3" name="Object 2"/>
          <p:cNvGraphicFramePr/>
          <p:nvPr/>
        </p:nvGraphicFramePr>
        <p:xfrm>
          <a:off x="3780000" y="3068640"/>
          <a:ext cx="29527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068640"/>
                    <a:ext cx="29527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"/>
          <p:cNvGraphicFramePr/>
          <p:nvPr/>
        </p:nvGraphicFramePr>
        <p:xfrm>
          <a:off x="2195640" y="2421000"/>
          <a:ext cx="432108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421000"/>
                    <a:ext cx="4321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But we must now check if the line is on or off the pl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1908000" y="2276640"/>
          <a:ext cx="345600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345600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5"/>
          <p:cNvGraphicFramePr/>
          <p:nvPr/>
        </p:nvGraphicFramePr>
        <p:xfrm>
          <a:off x="755640" y="1557360"/>
          <a:ext cx="453852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557360"/>
                    <a:ext cx="4538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 line is parallel and off the plan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1476360" y="1971720"/>
          <a:ext cx="523728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71720"/>
                    <a:ext cx="523728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of of Scalar Equation of a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       be 2 points on the pl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  <a:ea typeface="Arial"/>
              </a:rPr>
              <a:t>Let the normal to the plane be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1187280" y="1989000"/>
          <a:ext cx="3313440" cy="5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331344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003640" y="2492280"/>
          <a:ext cx="19098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492280"/>
                    <a:ext cx="1909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1042920" y="3357720"/>
          <a:ext cx="6685200" cy="269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3357720"/>
                    <a:ext cx="668520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95280" y="105264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Angle between two planes with normal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843280" y="2349360"/>
          <a:ext cx="2462040" cy="14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349360"/>
                    <a:ext cx="246204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3"/>
          <p:cNvGraphicFramePr/>
          <p:nvPr/>
        </p:nvGraphicFramePr>
        <p:xfrm>
          <a:off x="6804000" y="1628640"/>
          <a:ext cx="1620720" cy="6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1628640"/>
                    <a:ext cx="1620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arallelogram 5"/>
          <p:cNvSpPr/>
          <p:nvPr/>
        </p:nvSpPr>
        <p:spPr>
          <a:xfrm>
            <a:off x="1908000" y="4797360"/>
            <a:ext cx="2880000" cy="863640"/>
          </a:xfrm>
          <a:prstGeom prst="parallelogram">
            <a:avLst>
              <a:gd name="adj" fmla="val 65413"/>
            </a:avLst>
          </a:prstGeom>
          <a:gradFill rotWithShape="0">
            <a:gsLst>
              <a:gs pos="0">
                <a:srgbClr val="7030a0"/>
              </a:gs>
              <a:gs pos="100000">
                <a:srgbClr val="dee5f8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arallelogram 7"/>
          <p:cNvSpPr/>
          <p:nvPr/>
        </p:nvSpPr>
        <p:spPr>
          <a:xfrm rot="9981000">
            <a:off x="2468160" y="3898080"/>
            <a:ext cx="1542960" cy="2544840"/>
          </a:xfrm>
          <a:prstGeom prst="parallelogram">
            <a:avLst>
              <a:gd name="adj" fmla="val 24736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2484360" y="5661000"/>
            <a:ext cx="144000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1"/>
          <p:cNvSpPr/>
          <p:nvPr/>
        </p:nvSpPr>
        <p:spPr>
          <a:xfrm flipV="1">
            <a:off x="2771640" y="4869000"/>
            <a:ext cx="1008360" cy="792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Straight Arrow Connector 13"/>
          <p:cNvCxnSpPr/>
          <p:nvPr/>
        </p:nvCxnSpPr>
        <p:spPr>
          <a:xfrm flipV="1">
            <a:off x="3203640" y="4581000"/>
            <a:ext cx="2160" cy="72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308" name="Straight Arrow Connector 16"/>
          <p:cNvCxnSpPr/>
          <p:nvPr/>
        </p:nvCxnSpPr>
        <p:spPr>
          <a:xfrm>
            <a:off x="3203280" y="5300640"/>
            <a:ext cx="57708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09" name="Arc 21"/>
          <p:cNvSpPr/>
          <p:nvPr/>
        </p:nvSpPr>
        <p:spPr>
          <a:xfrm rot="11393400">
            <a:off x="2333160" y="5008680"/>
            <a:ext cx="863640" cy="836640"/>
          </a:xfrm>
          <a:custGeom>
            <a:avLst/>
            <a:gdLst>
              <a:gd name="textAreaLeft" fmla="*/ 57960 w 863640"/>
              <a:gd name="textAreaRight" fmla="*/ 337680 w 863640"/>
              <a:gd name="textAreaTop" fmla="*/ 9720 h 836640"/>
              <a:gd name="textAreaBottom" fmla="*/ 208440 h 836640"/>
            </a:gdLst>
            <a:ahLst/>
            <a:rect l="textAreaLeft" t="textAreaTop" r="textAreaRight" b="textAreaBottom"/>
            <a:pathLst>
              <a:path stroke="0" w="863600" h="836612">
                <a:moveTo>
                  <a:pt x="58169" y="208620"/>
                </a:moveTo>
                <a:lnTo>
                  <a:pt x="58169" y="208620"/>
                </a:lnTo>
                <a:arcTo wR="431800" hR="418306" stAng="-9041902" swAng="2863439"/>
                <a:lnTo>
                  <a:pt x="431800" y="418306"/>
                </a:lnTo>
                <a:close/>
              </a:path>
              <a:path fill="none" w="863600" h="836612">
                <a:moveTo>
                  <a:pt x="58169" y="208620"/>
                </a:moveTo>
                <a:lnTo>
                  <a:pt x="58169" y="208620"/>
                </a:lnTo>
                <a:arcTo wR="431800" hR="418306" stAng="-9041902" swAng="2863439"/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4"/>
          <p:cNvGraphicFramePr/>
          <p:nvPr/>
        </p:nvGraphicFramePr>
        <p:xfrm>
          <a:off x="2916360" y="5805360"/>
          <a:ext cx="2872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805360"/>
                    <a:ext cx="287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 the Cartesian (Scalar) Equation of a Plane i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Where :   A&gt;0     and    A,B,C,D are inte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1908000" y="2637000"/>
          <a:ext cx="3762720" cy="58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637000"/>
                    <a:ext cx="376272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Find the Cartesian/Scalar equation of the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That passes through point (-3,1,-7) and has normal vector (2,4,-5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547640" y="3645000"/>
          <a:ext cx="473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645000"/>
                    <a:ext cx="473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2050920" y="4292640"/>
          <a:ext cx="428004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4292640"/>
                    <a:ext cx="428004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Find the Cartesian/Scalar equation of the pla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b) that represents the xz plan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1476360" y="3201840"/>
          <a:ext cx="583236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01840"/>
                    <a:ext cx="583236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Similarly equations for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xy plane: z=0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yz plane: x=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Object 2"/>
          <p:cNvGraphicFramePr/>
          <p:nvPr/>
        </p:nvGraphicFramePr>
        <p:xfrm>
          <a:off x="971640" y="1773360"/>
          <a:ext cx="7132680" cy="21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71326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"/>
          <p:cNvGraphicFramePr/>
          <p:nvPr/>
        </p:nvGraphicFramePr>
        <p:xfrm>
          <a:off x="3780000" y="4653000"/>
          <a:ext cx="322740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653000"/>
                    <a:ext cx="322740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c) that contains the points A(2,4,-1), B(3,0,2) and C(-1,-2,5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4" name="Object 2"/>
          <p:cNvGraphicFramePr/>
          <p:nvPr/>
        </p:nvGraphicFramePr>
        <p:xfrm>
          <a:off x="2073240" y="2824200"/>
          <a:ext cx="473076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3240" y="2824200"/>
                    <a:ext cx="473076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7" name="Object 2"/>
          <p:cNvGraphicFramePr/>
          <p:nvPr/>
        </p:nvGraphicFramePr>
        <p:xfrm>
          <a:off x="2050920" y="1700280"/>
          <a:ext cx="468000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00280"/>
                    <a:ext cx="46800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3"/>
          <p:cNvGraphicFramePr/>
          <p:nvPr/>
        </p:nvGraphicFramePr>
        <p:xfrm>
          <a:off x="2050920" y="3429000"/>
          <a:ext cx="5235840" cy="253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429000"/>
                    <a:ext cx="523584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704520"/>
            <a:ext cx="74995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5 Scalar Equation of a Plane in Spa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: Find the vector and parametric equations of the plane,      , parallel to :                      and passing through the point B(2,3,-1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-188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43" name="Object 2"/>
          <p:cNvGraphicFramePr/>
          <p:nvPr/>
        </p:nvGraphicFramePr>
        <p:xfrm>
          <a:off x="1979640" y="3213000"/>
          <a:ext cx="4403520" cy="10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213000"/>
                    <a:ext cx="440352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"/>
          <p:cNvGraphicFramePr/>
          <p:nvPr/>
        </p:nvGraphicFramePr>
        <p:xfrm>
          <a:off x="2268360" y="1844640"/>
          <a:ext cx="5749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844640"/>
                    <a:ext cx="5749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5"/>
          <p:cNvGraphicFramePr/>
          <p:nvPr/>
        </p:nvGraphicFramePr>
        <p:xfrm>
          <a:off x="4643280" y="1989000"/>
          <a:ext cx="22132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1989000"/>
                    <a:ext cx="2213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1778040" y="4581360"/>
          <a:ext cx="4294080" cy="107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8040" y="4581360"/>
                    <a:ext cx="429408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1-01-05T00:35:14Z</dcterms:modified>
  <cp:revision>342</cp:revision>
  <dc:subject/>
  <dc:title>2.2 Derivatives of Polynomial Functions</dc:title>
</cp:coreProperties>
</file>